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26C-9E0A-411A-A51D-99571DF7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9E2-39C0-4E75-AD44-4881A4E3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637-DDC3-4B59-B4ED-9B6A6039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31C-36A1-428C-A7BE-651CA211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A92-E74B-4B36-B4E8-83C1D477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718-80B6-41DC-B5B0-130AB193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DA5-92A2-4AE4-8395-9EA7D9D9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D6A-C648-4CC1-80D8-55C5D78F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E15-CCF0-4CFA-9718-F801F8C8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F76-8857-4839-A723-2A97000F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902-0EF9-4320-85E7-94CC2C1D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84B-3D13-46D0-AC3B-D5111947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DB45-1336-4EAF-87E6-44C8004BB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тички мет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болесника који ће бити обухваћени студиј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сно дефинисани критеријуми на којима се заснива дијагноза (у сваког оболелог од малигног тумора дијагноза хистопатолошки потврђе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упу оболелих чине сви болесници или њихов случајно одабран узорак из дефинисане попу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удију ограничити само на новообол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контролне групе која ће бити обухваћена студиј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0755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ци из контролне групе треба да буду подударни са групом оболелих у односу на основне варијабле (пол, узра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пулација из које се регрутују припадници контролне гру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цијенти из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ст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дравствене установе одакле је изабрана група оболел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ва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дравствене установе одакле је изабрана група оболел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одела испитаника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изложене утицају чиниоца за кога се претпоставља да доводи до настанка неког поремећај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а се посматра у  групи изложених и неизложени утицају чиниоца за кога се претпоставља да доводи до настанка неког поремећаја здрављ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којој је од две групе инциденција ве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зи се од претпостављеног узрока и посматра његова евентуална улога у оболева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азе извођења кохортне студије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ор кох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езбеђење информација о изложености и подела на изложене и неизложене аген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ћење учесталости оболевања у испитиваним групама и утврђивање пропорције оболелих у групи изложених и неизложених дејству аген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годност идентификације чланова: У кохорти од више хиљада британских лекара испитиван утицај пушења на појаву рака пл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 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362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ебна изложенос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Особе које су професионално или стицајем околности биле изложене дејству агенса (штетан ефекат инсектицида међу радницима ангажованим на запрашивањ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Изучавање оболевања и умирања међу становницима Хирошиме (Чернобиља) после експлозије атомске бомбе (хаварије нуклеар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тички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ира хипотезу о фактору одговорном за настанак одређеног поремећај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довезује се на дескриптивну методу, лабораторијска или клиничка запаж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ује повезаност између претпостављеног узрока и очекиване послед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 обзира на начин избора кохорте , детаљним прегледом елиминисати особе већ оболеле од болести која је предмет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и припадници кохорте прате се током периода који се изражава годи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КОХОРТНЕ</a:t>
            </a: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опа инциденције (морталитета) изложених лица  упоређује се са одговарајућом стопом међу особама које нису изложене аген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ада се примењује аналитички мето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ује болести непознате етиоло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ењује се када су узрочници познати а циљ је да се утврди начин на који је агенс доспео до осетљивих ос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тички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зи од појединаца који чине одговарајуће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љаним епидемиолошким упитником обезбеђујемо информације о искуству испитаника у односу на одређени фа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итивање повезаности између претпостављеног узрока и очекиване последице доводи до поделе испитаника у четири груп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и обол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и здра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изложени обол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изложени здра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ушење и инфаркт миокар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ар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Е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+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+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б+ц+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ључно питање у аналитичкој мет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је изложеност неком чиниоцу повезана са појавом боле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ва основна присту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зи од последице тј.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дентификују се фактори који су удружени с појавом болести, односно који су јој претход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упак обухва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ор групе оболелих и одговарајуће контролне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купљање података о изложености аген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тврђивање пропорција изложених особа у испитиваним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1T08:13:41Z</dcterms:created>
  <dc:creator> </dc:creator>
  <dc:description/>
  <dc:language>en-US</dc:language>
  <cp:lastModifiedBy> </cp:lastModifiedBy>
  <dcterms:modified xsi:type="dcterms:W3CDTF">2017-01-09T11:43:06Z</dcterms:modified>
  <cp:revision>7</cp:revision>
  <dc:subject/>
  <dc:title>Slide 1</dc:title>
</cp:coreProperties>
</file>