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6EC-21E4-406B-9C94-E085579C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E69-5A27-487C-88A8-05555C9B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267-2BD3-4718-9179-20DBB6BD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00C-F78C-4618-9644-E8A57228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A30-25F6-4D09-AEF3-8D85D54E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E20-813C-4BFF-91A2-3DD8896F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F6D-4E79-42EC-ABEB-1ED0107F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3B5-8177-4D6B-9104-9959A26F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BFC-210A-4557-918A-E7EBE60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384-F0EA-46D0-BFE9-BEEAEA1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7BC-A7CE-47B4-9C1C-592F5787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21C-441E-4D85-9B04-832B4D0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441-82EF-46CF-AB98-86515E3A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спериментална 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чки аспекти експери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хуманој популацији изводити експерименте за које се сматра да су без штетних утиц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морају бити информисани о циљевима експеримента и последицама, после чега дају сагласност о учешћу у студ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 бити сп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а која дефинишу регулативе у испитивањима која обухватају хуману популацију: 1964.год. Хелсиншка декла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раживач прекида истраживање када утврди да може имати последице за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тички комитети при научним установама надлежни за примену етичких принципа у истражив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чки аспекти експери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ност: пружају најјаче доказе о постојању односа узрок-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достаци: ограничена изводљивост, спорна етичност, отежано генерализовање резултата, проблем одзива и осипања, захтевају велики број истраживача и велика материјална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 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ренски 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еримент у друштвен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вијају се под контролом истраживача који одређује експерименталне у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ч интервенише  (методом, леком, вакцин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снову добијених резултата располаже одговором на питања која су у вези са испитиваним пробл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узајнирање експерименталних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ланирањ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 Величина уз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 Рандом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на исхода и отклањање исхода у процесу ис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 ПРОТОКОЛ који садржи: циљеве еклсперимента, критеријуме за одабир испитаника, шему рандомизације, поступке који ће се у експерименту спроводити, начину примене испитиваних средстава, методе за прикупљање и анализу података, исходи експеримента, регистровање ефеката испитивања, поступци за добијање сагласности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ланирање експерименталне студ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испит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ти које ће карактеристике испитиване популације бити узете као критеријуми за укључивање у студ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треба да се слажу у односу на што већи број карактеристика од значаја за исход испитивања (пол, узраст, степен претходне изложености, тежина болести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еличина уз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 испитаника који је неопходан за откривање ефеката испитиваног лека или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ва се статистичким поступ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ндом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врставање испитаника у експерименталну и контролну групу методом случајног из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 испитаник има подједнаку шансу да буде разврстан у експерименталну и контролну гру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цена исхода у експерименталним студ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к сам уочава ефекте испитиване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ч региструје промене статуса испи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ПРОЦЕНА ИСХОДА Е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Индивидуална пр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едн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Дв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Тр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08:13:41Z</dcterms:created>
  <dc:creator> </dc:creator>
  <dc:description/>
  <dc:language>en-US</dc:language>
  <cp:lastModifiedBy> </cp:lastModifiedBy>
  <dcterms:modified xsi:type="dcterms:W3CDTF">2017-01-09T11:49:16Z</dcterms:modified>
  <cp:revision>11</cp:revision>
  <dc:subject/>
  <dc:title>Slide 1</dc:title>
</cp:coreProperties>
</file>